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BE1-360B-4D22-AAD3-457DA5F4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DE0-7969-48D2-BACE-9DC9C50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DE6-C492-415F-A37F-B8543D13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A82-6CBA-43D2-997D-DA6AA0CD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A4E-4652-4213-B477-E62F2A4F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1ED-B389-4279-AC92-4F8E85F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DFE-291A-4E54-8512-6F2CBB85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250-44C9-4BF0-97CA-4B59040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CE9-1D63-4B2D-B1CC-0F9245D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E9D-4481-4529-8E2E-CADD7A7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2BB-7C39-49B4-B7DC-79DCD15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773-525A-403C-BEA5-32F5C9E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8C15E-3442-4432-8FB4-F5102F5DA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1038240" y="2266920"/>
          <a:ext cx="70675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66920"/>
                    <a:ext cx="70675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Box 4"/>
          <p:cNvSpPr/>
          <p:nvPr/>
        </p:nvSpPr>
        <p:spPr>
          <a:xfrm>
            <a:off x="8280" y="1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Figur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177080" y="2070000"/>
            <a:ext cx="766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=0.05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12:09:28Z</dcterms:created>
  <dc:creator>Tidi Hassan</dc:creator>
  <dc:description/>
  <dc:language>en-US</dc:language>
  <cp:lastModifiedBy>RCSIAdmin</cp:lastModifiedBy>
  <dcterms:modified xsi:type="dcterms:W3CDTF">2014-07-28T15:22:51Z</dcterms:modified>
  <cp:revision>2</cp:revision>
  <dc:subject/>
  <dc:title>PowerPoint Presentation</dc:title>
</cp:coreProperties>
</file>